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552-1EC6-440A-97E7-65947CAD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AF9-4B44-460D-8496-3DB8B6C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38B-A15E-435F-8C88-902BF822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E17-3E6B-4554-8EFC-B098B40E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2FD7-F61C-4016-B323-69BA6CEB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9F9E-4F64-4E0C-B6F9-52C34581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C112-B232-4951-AA03-7C1E6BBB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5E74-572F-4EF0-8A6F-8965F97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E196-D86D-4B0A-97B8-52579B1D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3E0E-242A-418F-BAB5-B6FE3441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0974-DC1A-4BE8-8E2F-9889837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214-EB0B-45E0-99F7-5CA3088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E8D7-0F12-40B6-8F81-89770256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2246-E411-412A-B2F3-57208F07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192B-B663-4B39-AD01-50AE3C49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ABFE-907B-46A0-A4DE-67749CBA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495E-640B-48AE-AC22-DFCA5E7A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489-95E0-4BDE-89C7-500F8CB0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893-A786-431D-B20A-CA126907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FBE-D35A-43F6-993A-56DC35E3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79A-4F8A-4F5F-BB6E-043D3205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149-B520-4A98-9A18-9D43608D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40A-4321-4A7A-9CCA-0DB3CCA6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C4F-4909-482E-B86B-679EAEC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B006-FD45-4A79-89F5-DE24795CC1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83F4-ED46-4DBF-B4AB-CD3C441B5A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zasada akcji i reakcj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863800"/>
            <a:ext cx="723924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ciało A dział pewną siłą na ciało B,     to ciało B działa na ciało A siłą równą           co do wartości, o tym samym kierunku,       ale przeciwnym zwro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est nazywana zasadą akcji i reakc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żdej akcji towarzyszy reakcja o tej samej wartości, ale przeciwnie skierow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większą siłą działamy na stół, tym większą siłą stół działa na nas – im mocniej uderzamy, tym większy czujemy b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3124080" cy="15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siły akcji i reakcji równoważą się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5400" y="2514600"/>
            <a:ext cx="6765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, bo każda z sił działa na inne ciał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rzykład: młotek uderza o ścianę - ściana oddziałuje na mło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mają ten s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runek i wartość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wroty przeciwne.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mają tego same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u przyłożenia,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em nie równoważą si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2590920" cy="22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31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utki działania sił akcji i reakc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wujemy w zjawisku odrzu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1440" y="259056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niki odrzutowe z dużą siłą wyrzucają gazy powstałe w wyniku spalania paliwa, a gazy te siłą o tej samej wartości, ale przeciwnym zwrocie pchają pojazdy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isk wylatujący do przodu               z armaty, powoduje jej „odrzut”         do tył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37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 też zastosowani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czas pływania kajakiem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lotów na motolot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25146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jakarz wiosłem odpycha wodę do tyłu,  a ona pcha wiosło (z kajakiem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migło motolotni odpycha powietrze do tyłu, a odrzucone powietrze pcha śmigło (z lotnią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819520" cy="157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281952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0:3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